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796-FBE3-47E1-8F54-C3345B58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8DD-239F-48E4-AC5E-CC611B56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45F-37B9-438E-972D-DCCB822F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901-BCB5-491F-92B5-0D69B292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BB6-2FAA-49DA-A925-DF483295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9B4-936E-4675-98FF-1AD3A405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F9D3-C66E-4563-833B-BEBCBCB8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02EF-1185-4565-87CF-9EA9D3AE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38FD-59BA-4A89-900B-F75C71D2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4AD-BF3A-4E01-927D-E6F35D5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C34E-70F1-4724-A593-3C424EA7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D447-BECF-422A-933B-3D9AA685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BEB1-6A23-4DBB-BCD3-24E0FFDB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084F-E3CB-42D8-B5B0-66625030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9F46-5AD3-499A-B3D6-977BB73A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024D-AA69-4C8C-A47B-9D2A1AA2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DB1C-33D0-454D-A348-DE6C828F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6A52-3349-4AA9-8BBE-70D52DDA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8FC5-3B67-4819-8705-DB1FEB4D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910A-D342-4C6C-BC7C-A9FA5949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B71-7AF5-4595-883E-61F75565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122DB-649D-458B-A26C-17A942E7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406A-E9F7-4005-8CD7-AC13D40E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8D1DF-F327-44A9-A3BD-AAFCB2F8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36E9-A8D3-4A1D-ABDD-1023DA2E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1FA6-6E5C-4AA9-9918-2E08F9A9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AAB9-0636-4B59-87B5-2D67BB0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04D7-F50D-4A1D-86E1-90245F50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0C4E-C16C-4C36-850D-CAD0C192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A48F-DE79-4585-A30B-979E0F3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A412-E358-41D3-8E2B-2906F429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7B5-9477-4761-A86F-8920A738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6AD8-58D2-4C2D-A858-55A8D033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83E3-2F96-4938-ACE7-262DBDDF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9A0A-971E-430A-92F3-B1728196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829D-29FA-492C-887D-B16AFB4C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5A4A-AA67-4809-8969-786CFE7F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841A-83BF-4820-8AF3-6F690819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D8C75-710C-43F3-86DE-00F7089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F049-8256-4C9F-8D1D-8F075E6A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6313-8C94-4C95-94EE-72B3849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483DB-D42D-4543-9CD7-44B79DBF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0BD-E1CC-4D22-8456-5754FB7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DE0E-8746-4540-84D5-932D57B1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CCB72-81D0-4ECB-9C52-288F8917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DE34-08F6-4195-B2A5-3B47597C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E23-8B50-4D57-BD52-57CF530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0C1-487C-4DFA-B77B-E748CAAC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DD3ECD0-473F-462C-AAAF-78BC3126DAA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B929061-8D80-4BEE-A3C5-8AD46386092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EF8BAAF-892F-47F2-B12A-A31AF99BB5B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C1D1F1C-8A1A-4DCD-BA1D-A6181707731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jaśnij pojęcia: aseptyka, antyseptyka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Aseptyka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 – to niedopuszczenie drobnoustrojów chorobotwórczych do rany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Antyseptyka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 – to usunięcie drobnoustrojów, które dostały się do rany 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6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